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3354-D0ED-4C99-9CD3-6988D084F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DF6A-1B5D-4CB8-B26F-A7C94D784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94E3-C0B6-4E4F-B643-FC60B3C22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A963-31D4-49CE-8EB6-804D7BE06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D559-265D-4A86-A267-49594E1F2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C3EE-06ED-4427-883F-56E7B7942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64AA-96BD-4FE4-B82E-5A90471D9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79CE-EBC9-491D-8231-69D559F2D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D9D5-2C55-4D73-B91F-CF68751BB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AF8A-3E64-44A0-894D-F06E47BBE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40E0-231E-4B01-8299-B14AE2680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E2A6-013E-4060-9F86-45775BBFE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7493B-96F4-4C1D-BD1D-BF2431AAAB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www.photobirds.com/templates/default/images_pubs/bird_skeleton.jpg&amp;imgrefurl=http://www.photobirds.com/pub_8_Avian_skeleton.html&amp;h=520&amp;w=350&amp;sz=26&amp;tbnid=5Qu_deVHKR2XJM:&amp;tbnh=274&amp;tbnw=184&amp;prev=/images%3Fq%3Dskeleton%2Bof%2Bbird&amp;zoom=1&amp;q=skeleton+of+bird&amp;hl=en&amp;usg=__cHm7oP2Yc6grbpKwcZk1g45kkQA=&amp;sa=X&amp;ei=_DiFTJi-NsP6lwf99LmGDg&amp;ved=0CBYQ9QEwAA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google.com/imgres?imgurl=http://www.statesymbolsusa.org/IMAGES/Illinois/NorthernCardinal2.jpg&amp;imgrefurl=http://www.statesymbolsusa.org/Illinois/bird_cardinal.html&amp;h=374&amp;w=334&amp;sz=24&amp;tbnid=Lv5eLlTHJRAABM:&amp;tbnh=238&amp;tbnw=212&amp;prev=/images%3Fq%3Dphoto%2Bof%2Bcardinal&amp;zoom=1&amp;q=photo+of+cardinal&amp;hl=en&amp;usg=__BuryGEtdPbXywFstqiOxNyAtin0=&amp;sa=X&amp;ei=sTmFTJfrLYP7lwf1ian1Dw&amp;ved=0CBkQ9QEwAQ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static.howstuffworks.com/gif/frog-1.jpg&amp;imgrefurl=http://animals.howstuffworks.com/amphibians/frog.htm&amp;h=349&amp;w=400&amp;sz=22&amp;tbnid=WneiJ9aXOx4U2M:&amp;tbnh=108&amp;tbnw=124&amp;prev=/images%3Fq%3Dphoto%2Bof%2Bfrog&amp;zoom=1&amp;q=photo+of+frog&amp;hl=en&amp;usg=__WVGmIrnR0pkzoB_SN1ML7TH6MyQ=&amp;sa=X&amp;ei=9jmFTLfZNsT_lgeyqpXQDw&amp;ved=0CCEQ9QEwAA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www.google.com/imgres?imgurl=http://www.digitalfrog.com/resources/archives/skeleton.jpg&amp;imgrefurl=http://www.digitalfrog.com/resources/froggallery.html&amp;h=414&amp;w=354&amp;sz=46&amp;tbnid=D0UucdXPA4j2cM:&amp;tbnh=125&amp;tbnw=107&amp;prev=/images%3Fq%3Dskeleton%2Bof%2Bfrog&amp;zoom=1&amp;q=skeleton+of+frog&amp;hl=en&amp;usg=__zFygvn3ySX2fZEbbwYsjshtjqZI=&amp;sa=X&amp;ei=JTqFTNH0EIOClAeFzcSMDg&amp;ved=0CCIQ9QEwBg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Snake_skeleton.jpg" TargetMode="External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www.learning-graph.com/images/clownfish.jpg&amp;imgrefurl=http://www.learning-graph.com/look-and-tell.htm&amp;usg=__ao3nhQ0vFDoLaitkoQDIwzLj1E8=&amp;h=640&amp;w=800&amp;sz=162&amp;hl=en&amp;start=7&amp;zoom=1&amp;um=1&amp;itbs=1&amp;tbnid=0ay8bf-PASmSZM:&amp;tbnh=114&amp;tbnw=143&amp;prev=/images%3Fq%3Dphoto%2Bof%2Bfish%26um%3D1%26hl%3Den%26sa%3DX%26tbs%3Disch:1" TargetMode="External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rtebr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imals with Backb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mm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876920" y="3581280"/>
            <a:ext cx="3429000" cy="27320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5334120" y="1295280"/>
            <a:ext cx="2666880" cy="20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880" y="838080"/>
            <a:ext cx="1782720" cy="26672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133720" y="3657600"/>
            <a:ext cx="21096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mphibi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81952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880" y="304920"/>
            <a:ext cx="2210040" cy="19429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705720" y="457200"/>
            <a:ext cx="18493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t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Snake skeleto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8320" y="3962520"/>
            <a:ext cx="4171680" cy="23320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copperhead1"/>
          <p:cNvPicPr/>
          <p:nvPr/>
        </p:nvPicPr>
        <p:blipFill>
          <a:blip r:embed="rId3"/>
          <a:stretch/>
        </p:blipFill>
        <p:spPr>
          <a:xfrm>
            <a:off x="228600" y="3962520"/>
            <a:ext cx="4267080" cy="12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s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24280" y="1828800"/>
            <a:ext cx="2286000" cy="18223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791320" y="4038480"/>
            <a:ext cx="2666880" cy="17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6T18:52:19Z</dcterms:created>
  <dc:creator>Gary</dc:creator>
  <dc:description/>
  <dc:language>en-US</dc:language>
  <cp:lastModifiedBy>Gary</cp:lastModifiedBy>
  <dcterms:modified xsi:type="dcterms:W3CDTF">2010-09-06T19:07:01Z</dcterms:modified>
  <cp:revision>3</cp:revision>
  <dc:subject/>
  <dc:title>Vertebrates</dc:title>
</cp:coreProperties>
</file>